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B5D-94E6-4BA1-A461-10C23260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572-0731-4E83-B075-97481F1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1BF-7A2E-4D4C-96E1-22CA5C7A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635-12A3-42F0-B328-8CE5B885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8DA-E78A-4B12-B108-61BF221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48D-F2FA-4680-80E2-CE08FB0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4E9-3968-4AA2-842C-CC3EC29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D05-9159-4A3A-A808-AD14446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979-B44F-4D79-AFA7-01618A6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4DD-F12C-4602-9BD0-DED9370F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ED2-A86A-4A80-9B9E-9E3C104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010-013F-44B6-8FEC-DC109C9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AA9-2620-4950-B02D-3195262B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s.harvard.edu/~vsdb/phototoc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fuciusonline.com/chinesephilosophy/legalism/1297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81080"/>
            <a:ext cx="556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greates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 in Lu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part of a noble family then became poor and orpha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edu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simple lessons for l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1 – 479 BCE   during the last years of the Zhou Dyna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and mutual respect among people led to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others the way you would want to be treated – Golde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8288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160020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idea of Confuci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between two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existing in harmony with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confucius ren"/>
          <p:cNvPicPr/>
          <p:nvPr/>
        </p:nvPicPr>
        <p:blipFill>
          <a:blip r:embed="rId1"/>
          <a:stretch/>
        </p:blipFill>
        <p:spPr>
          <a:xfrm>
            <a:off x="3352680" y="25146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05740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 and w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brother and younger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 an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 and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rity (honest), loyalty (trusting), mutual respect (conside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very important and children should respect thei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 should act like good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should be based on goo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officials should earn their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19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love for all people and respect for all people will bring pe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010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eople are bad by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strong government with strict laws and harsh punishments can keep the evil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galism philoso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65720" y="1066680"/>
            <a:ext cx="47782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O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9810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a small and simpl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leaders work quietly in the background and do not worry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find Dao – “the way” of the universe by being in harmony with nature and in touch with your inner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119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9:06:17Z</dcterms:created>
  <dc:creator>gehadde</dc:creator>
  <dc:description/>
  <dc:language>en-US</dc:language>
  <cp:lastModifiedBy>gehadde</cp:lastModifiedBy>
  <dcterms:modified xsi:type="dcterms:W3CDTF">2012-03-16T12:38:44Z</dcterms:modified>
  <cp:revision>21</cp:revision>
  <dc:subject/>
  <dc:title>WARM-UP: #5</dc:title>
</cp:coreProperties>
</file>